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BF1-A73F-4E98-B63E-165557E4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4DB4-13AC-43AD-BACA-4BFC441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116-EFEE-4017-A186-666C0677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F1F-AEF1-46E6-87EF-74E2A799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A3A6-D524-4749-AD8B-F0541231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000A-CFCA-4DEA-8B45-AEC1B1C9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5B04-6170-4F04-A40A-664DB0EE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0AA9-7FD3-445F-BFB8-A8093DE4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A8F1-39B4-4CA5-88FE-90FD591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9F1B-F6D0-4199-A3AD-610D041C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1D41-C92D-4653-9E3C-59C9D682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42D-86CA-437D-8336-868C0668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9FCE-596B-48A2-BE65-7EDFB9B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232-875C-4459-AAE9-AF4A374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FB3-86FB-4381-AC44-2DF40D6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3CFC-0982-4E37-AF6F-61D71793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4DF3-D0D0-4F8B-8C4D-6F1520AA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1B76-7F9E-4262-B75B-26752AF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63B-41CB-4BB0-B293-17899884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2BD-6ECD-4A8D-AF6D-876ACBA6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BA7-AF25-4A00-8039-285D06A1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C56E-636C-493D-A3F1-40675C4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A47-D5B7-477C-B304-43D50573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2FE-8757-4EC3-8279-BD950A1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03b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fb18"/>
                    </a:gs>
                    <a:gs pos="100000">
                      <a:srgbClr val="00603b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7fb18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7fb1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07fb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102-72FD-4CCF-84D9-D11881A5C3A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603b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00603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603b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00603b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7fb18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7fb1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7fb18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07fb1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07fb1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07fb1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0E06-EBBB-4022-87D3-85ED6748B8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Spanish cla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Mizraim y jeremia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Mam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Pap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Hermano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Herm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638680" y="19810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os colo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Azu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Roj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Negr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Amalli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5181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a cas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"/>
              </a:rPr>
              <a:t>El b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5:13Z</dcterms:created>
  <dc:creator>WSFCS Workstation</dc:creator>
  <dc:description/>
  <dc:language>en-US</dc:language>
  <cp:lastModifiedBy>WSFCS Workstation</cp:lastModifiedBy>
  <dcterms:modified xsi:type="dcterms:W3CDTF">2010-04-28T18:56:57Z</dcterms:modified>
  <cp:revision>3</cp:revision>
  <dc:subject/>
  <dc:title>Spanish class</dc:title>
</cp:coreProperties>
</file>